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7F9-EB82-43F7-B861-CA4ED9EE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8D2-FC44-4CBB-B5CD-8202DC4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CB7A3-2118-4D91-B6E0-D73BB9D9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8F0D7-21BD-41CB-9E53-C339A5F4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84414-3B6C-4C4A-8E82-5FB37141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85ACC-FEEA-4097-8EE7-59CE1F01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62F14-0057-43AC-8201-EB0F5B96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B66C9-85E1-4E60-AABF-4EB4B21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9AE84-F3A5-46ED-A47D-B2596789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D289A-00EF-469A-A480-32023A25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C0E20-D602-468C-AE6C-687AC0D6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114A4-5730-4C6E-899A-1F0CE9ED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44A-A2B8-4827-9A3D-ABEB3FA9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09644-F321-4EE1-875B-529460E7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D2100-5178-46B1-819C-3A449F32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1CAC2-8684-4C9D-8989-F5678FEA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AC137-C752-4EC7-B745-3480F481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758AB-DD12-4585-98F5-3D5FE6C4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CD6B5-4249-4923-904D-58714395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DD85B-73EC-487D-8146-7405DE0D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35DF9-3B10-4162-876A-287E0205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A69CA-BB76-4A1D-BEFA-B5B738A2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0D406-DA2E-4535-9FBC-0AAAF6B2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4CC-5FA1-4251-A66F-408F4E05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4AF84-342A-4B2C-AD61-D825D927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D5752-4853-4070-80FD-DFF698DB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2C07B-8E24-4E2C-BD94-742D8F8C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E635B-1261-4E75-A01B-F2A73C8E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6FC75-7790-4BE7-8511-876C0989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48518-585C-468D-BB9A-03E18EA3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69094-A223-4331-9470-2B4086E2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DFCC8-FC14-496D-8634-7BD453EA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C8646-BB64-43E0-8CE1-44C4C6D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8CA20-048A-4D04-8942-C4D9BDDD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586D-19F3-43F9-B9B2-FEF36A44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3618E-DE8E-4F8E-8C45-8E830758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F4121-38AC-4F7A-AE20-ABD6DCCB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32EB2-0F81-4A26-96FF-BC07B9D5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EC995-4D4C-4351-9C57-51F7793A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CAF31-11E6-4DAB-932E-6A18C5DB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30084-17D8-4B88-9C42-7559CF14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0FF51-6913-48DB-95F1-7F1966FF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E6EF8-9DEC-40C5-9876-55ADFDD9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B1DC3-FCCC-43EB-A79D-BE8D4B85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9628E-8564-4F65-9F50-C1EA2CFC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A90A-83FA-41BD-BD70-30D3403F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9E3BB-F19C-4C78-9660-63254BE6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269C8-DB19-4DAC-BAE8-5683C877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F45D9-0B92-41A0-A52D-9C55265B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CED3B-54D0-4952-A494-53FD8CB3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0CC54-063A-47F6-8B07-94B6159C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DAF44-8799-438D-A431-25B76470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69C99-579E-4874-9FE8-D7ED7BC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53015-F57F-4573-8DB2-819DD6C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11B8E-4704-475F-BFC4-CF77F611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A7917-506C-4CC8-B642-DD07F64F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7412-AE81-4BE2-97A7-9A9041D5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62F7A-C927-4D89-A292-4DF5349D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1976E-590D-45B2-ADA1-170B6FD7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F134C-1C53-4175-80AA-984BBCF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6C2DA-588F-479B-9951-FFEBDDB3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FB602-A1FA-4A18-9788-85B19BF6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A6780-B6F6-487B-AB99-B3A6AFD6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02F4E-01DC-4C6F-AF61-9DB4DF1D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730E8-9E02-40A4-9811-08F46872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F5DA7-4F85-4573-81CA-66C02771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4C438-B30C-4177-95B6-4921DBB3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1CCA-BC61-47D1-8100-85FA016E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82915-4DF6-495C-B9D1-104AAC76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53658-6BF7-4032-8F5E-905027D4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65CB8-8221-4790-91CE-8C99F64E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FF4A5-F4DC-436C-AAB7-709BBBC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6304D-68B1-4551-8DE8-B79C8279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F1E9B-DF72-4F15-8F59-2555B0B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AADC5-8B4A-4DA2-B811-540D48D6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23E6C-2442-455C-95BE-DE9FD7B8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9A0CF-D60F-4968-94FE-F0B42095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67211-F4FD-4C14-8C66-29542529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4F3D-ACFD-4856-A5AC-6AC7FBC9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A7FE6-3027-460E-BBBA-ED937330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3B610-68B4-48ED-BB10-0C7A8556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BC7CE-BEC1-4388-A9E3-2ADA6EC3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C9F52-089E-49EE-A88D-06D706F4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87A90-C84B-48DC-9AEF-25812C32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92559-030E-4E08-B734-400102E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55A1D-DA4D-433E-8BE6-6B40755F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82BB9-3E85-469D-9FFB-45B166C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CB769C-CC10-41F9-B271-1D0DAC1C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CF537-566D-48CE-810B-F39FEC11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FF8A-343F-46DC-B8A7-CCCA5EF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24987-0929-4042-AD4C-87758A8A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195BD-2E33-4620-9F86-88127F44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94E8E-3973-4526-A09F-355374F2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12382-3D30-4E71-834D-706FB243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43954-550C-4FD2-B321-ED63FF05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EE7EE-6398-4666-B40F-47388468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B345F-078A-4071-971A-8B547D45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6347C-6351-41A8-A6F1-EC75409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F4E1F-8846-4E51-9F03-DCD70BE6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34DA4-128B-4D33-B3FF-2DFDC5F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F287-7366-42D6-A1A2-BCCC66E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93471-F956-4D33-BC6E-F3BAF90A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C5726-432C-41CE-B5F7-F726D1BC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9701D-23BF-4619-8F8E-F23629D8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A5CC7-91F0-4464-88C5-A00E4EF6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0335B-8EFA-440C-ACC2-4AD4D66A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72AA4-DDEF-4E3F-AD4C-CE9BC6B6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21866-3E4C-4431-B415-B91D97D8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503DE-3C20-4BDB-99F7-E9FABD23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C07D8-B0AF-4477-BACB-677E16ED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D8483-D12A-4C05-A338-D3B7880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64D-3F44-4396-8B45-F72E926C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3B8E-A02C-42B1-AC32-6B0B025E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C4DB7-9A97-4828-B24D-F0A51659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7FD8F-EE77-4EA5-9392-6AD6B01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4E649-563A-4CD5-9D0A-81D9B8F3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A9F6C-14AE-4EE4-ACEE-BA778B0B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1189A-0C77-43D5-AB62-A0B51D2E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C5807-375D-405C-9633-139F81B2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9F44CA-38D4-4B96-AF39-71A2566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C0A57-793A-4FAA-B1CD-7A4B3C48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8770C-A6D0-4790-9A9B-7EBA8A22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BE21D-4B29-4FF9-BE29-73E691AB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E3F2-E850-4862-B884-1C3F53D9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A020D-6016-4A87-BD04-8E50CA5F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619F8-93B0-4C84-90DD-90505CE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3B404-A923-469E-AD71-43D6697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D33D0-BDC4-4F3B-B570-788740BF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DCD36-9461-41E8-BA1B-2529AF86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8CB4E-1F76-4BD1-8722-74220458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DC805-7C32-4CA0-9BBC-A1F35CA0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76A37-91E3-43B0-89D6-E2E22E28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966B1-9370-4141-9BC2-BB7DE9CF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DE4A4-48A1-4BC4-A1F4-FDF1E7BC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8AA3-1F7A-474B-A5D6-7F67606F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C0F471-10F2-416C-90E0-BD34D004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F4DA8-0752-491A-9AE8-46BA7005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A1D7E6-9ED5-4383-BB7B-72E25989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3FEAD-562F-4228-AD86-E6B8FFF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F7C96-BA91-4594-8D1C-9FA4B113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F7B88-4817-4C6A-B752-763A1C18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EF076E-7DA9-4927-AA4E-60CB8E4A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08B60-DA83-4076-B41A-D5A3EABD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DDC39F-4487-48E9-B5BA-A8A9A73C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E526B-92AC-4DF9-B9D8-7289D15C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A743-D835-4227-B718-D967BFC1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F42C1-B411-4AB3-9EEF-48996741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8E5F24-11C7-4F3A-830C-4698FFCB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7C528-CE90-40CE-B038-813B0AB7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EC977-82FD-4485-B370-91D8DEF8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EE4459-A409-4FBF-8FC5-59BC970A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A6AEE-C1BA-4984-97A7-293DBE8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E1ADFF-8254-4752-AC6D-BB37BB79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A4825-7365-485A-AC0B-36F5BAEC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1571E-D782-487C-B8B5-7F1CAFAF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6E3D6-9574-428D-AAB9-AA5C8B21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B214-E28C-47C7-9FF8-C9D41BF1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3E87B6-749F-4F34-963A-310057A2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3B904-C4D8-4D5E-BFFB-9FA89F58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CE53F-A7D6-48EA-95F4-DB9C829D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762799-A8E2-4771-9890-2660780D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98607-9CDD-4476-9853-A6D60024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FEDEE-1A66-47B8-9DAD-1977E65D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74100-3E4E-4A85-9B2B-32BC1660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F84E3-25EF-44FC-9F51-AB15C893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1DCA9-FF5E-4E06-AAAE-3C9F8799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A9DDF6-7903-433F-8F47-5B8107F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1034-4F1A-4D5E-9B89-C0347A2B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2D315-21EA-4FFE-80CC-424888A1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7015BA-E2F5-4150-8D72-15D6C052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4ECAE-DB7A-454B-AE6A-8DB42D4D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5C9AA-2704-433B-B680-01F29A94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A7E5-C35E-487D-95F7-A199082E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53FE-5826-4E6A-BB50-A33A830C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1025-D608-4A82-9084-88074249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2EF-4A15-4E12-B5B3-BFAF88B1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4039-9DC9-433A-9550-250206ED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6024-E244-46D5-ACD3-58901562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30AC-5EDF-46FE-8C5A-2EA6A4D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0331-13FD-410D-9D91-6F79E163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478A-C054-4A83-9898-3EFF6441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041B-4786-47EE-BFCF-9C84ADD5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B517-9115-4599-9C58-333D7F57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5A2A-FE3D-43A4-ADDA-32E0087E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F2B3-FC16-48B6-A72B-04815754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AF71-AC64-47AC-8D27-21E6AB9D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765-23F2-4EED-9A95-1EE80D7B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96E4F-07E4-406A-BF48-E3FA0DB0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6C4D-11DC-4743-BC4F-6E96CB99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3EEB-C273-424C-99A3-8616D193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13630-1325-49FB-AD21-113CE76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39295-7802-4E3A-9E15-3E357B11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13B9-D831-4ED0-A684-8965017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8406-23A3-4071-8FBD-40234C51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5F840-875C-48EE-BFEA-80ACE1F5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D819A-0EB5-485E-A320-2D7D6AC5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797F7-14B7-40A5-B183-1D5EE113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3BC-9B83-423A-91ED-F3664706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BC89E-88CA-4DD4-A1EA-C926A031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E44C-1BD1-4581-A1F3-3374D007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75F60-992E-42D4-A8BC-C7204B19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056DD-2810-4745-A540-AAAFBC39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9D924-DEDB-48AF-87DF-39EE4452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CDDC1-4523-41C0-9AA9-A2B8F454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415A-1353-44BF-9A05-F9884683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B827-0406-4B2E-9261-AA8AC155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EB30F-4B97-4208-825B-B7B77790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DFB9B-B175-48AA-BD07-5140CE83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01B-396F-4FC9-B0C6-9F167352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21AE-A088-4F3B-BAAD-8F34C857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13AA2-C67A-4155-8E85-6742878D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B7D41-1346-432C-8A77-359CB6A5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B5DE4-BCE5-4750-82D0-FDC55E5A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0B537-C934-4825-A9E0-A37F360B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970DC-76E4-47A1-A020-AA947316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08583-3B31-4DE9-8971-4B53A862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B2E00-93F4-410A-AB7F-1D09321F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86BEC-EDDB-4195-9927-944A2828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C9706-E32A-46BE-ADA8-3FDFFE1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38C-F512-49A7-8A6E-9A961695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D622-7A04-4FBD-B85D-51F8FA82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5111-BE9F-4F39-B3EA-8E1816FA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C195D-D796-4AA3-800C-CF181A43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6547-8028-4F78-ABAE-BDE4AA71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3DF59-2AA6-42CB-9801-BCE4AA61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E6266-6C68-444B-B20F-79DE9DFD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A9855-DEE3-4DD5-85B5-FF395660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A273E-CA53-4A40-87C1-0AA24CD5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D56D8-669A-4763-B1D4-0476F847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4923E-C2EF-4A33-9BCE-3A57877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027-C03D-4818-BE34-E00E12F0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7BF8A-AB8F-4661-A231-AA1D39F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E21E1-CFF8-47D4-8095-AD1DA06B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BFFBD-F077-4D6B-A87C-521BDD3E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185C-70CD-4E59-A797-594D6631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4975-00F9-49F0-9F6C-3DA9A32F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93033-9710-4D05-B1C7-2480813C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710E-6E0C-4421-854B-30598AD3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E1AB2-14D7-4C22-8FEE-754BB0FE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1C1B6-76CE-464B-9A91-17AC4504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943F9-7E7F-4770-A9AD-F9977442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2CE-BBD6-4F42-930B-BE605D9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59BD-5AFC-45CF-8BD2-A18D4497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E9899-8E4D-4355-B008-A6C87F6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821F4-4FED-49AC-A599-8DBBF92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E6699-8F9E-45BD-99AF-F159833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61D74-BA2E-4F8D-B154-F2FAB91E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FB4C6-C79C-466B-A1D1-3216714E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1B581-0B09-49C5-BA8D-B720C3BC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33903-78CE-4A1B-8FD2-46A92721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63200-BB63-4C86-A469-6233ED41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9EFC1-3547-412B-9711-C704E85A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F39A-6DF9-4A71-B0F7-6F0B9E266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D6BB-EF7F-401D-8C2A-10BF91552B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B215-6662-4B57-BCF3-46F267101B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30EC-E5F5-44F5-BB3B-3BA2E18FC1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396B-9E2C-4BAC-8B42-1A3B73169A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141C-5D85-46F0-A2BC-8468ED0C2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62CE-DA0A-4A5A-99D7-319960D807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2F4B-A2D5-4B17-9C3D-ACE5F22EA4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5629-B07E-4AE7-A21B-8ED102D4A4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E878-55B3-4A79-A84B-C4E7592DA8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1554-B8F0-4071-9401-640CB2A56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1688-FF90-4CE3-A3AF-2CB53C3804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323F-BEED-4F85-9218-F95DB21FC1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0FD-55AA-48B1-82A1-41994D2079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0FA1-512E-4CF9-8695-35056F9E78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5E2-94B2-4118-BD33-19F9550E2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EA07-D21F-4D37-99F6-FB17EFDDB4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D8FB-668E-4961-9DB3-92DC7B5E70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229C-86F2-462C-BED4-786C51956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01A8-1CD7-4057-8EC9-5C5509C5E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A331-8295-4124-884C-990E5EC3B3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2CC5-2DD6-4367-A5F8-CC181BFD8D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4E38-BA94-4803-9940-302AB78FB0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BE5C-4800-4E93-B4E4-9247C1EEB6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B90C-4403-4209-9EF8-99219EB55B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031E-CF5B-4038-9076-4F5329D85C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DADD-ADA4-4C7F-B4FB-D29143392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83D3-273C-464B-AD88-0B5DADC2E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1C9-2791-46E5-8C79-55D0D11231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7AE-0D91-4D94-BB91-A84C432F2F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692A-27EC-43FA-8516-F12732956C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0136-0984-4718-B5F2-A751F57F47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4A45-78E2-4A44-AE68-0533393EF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B9A6-61D9-4E4E-B4C1-958E0DC18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A8BB-24C9-437F-8992-57A794BB0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90D2-6550-4BB9-AD47-0BE53A49D6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9E0-253E-4716-9591-CA282B48AF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F74E-439F-4000-98B0-8A774315C5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7E55-A85A-4E1E-B276-143C43FCE0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E58B-1B30-4F7A-8E8F-1E3C2BE623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147760" y="2914560"/>
            <a:ext cx="48484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71360" y="981000"/>
            <a:ext cx="8801280" cy="193356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247680" y="3224160"/>
            <a:ext cx="8648640" cy="320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443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843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8172360" y="262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1600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4643280" y="262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90000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550872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971640" y="508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5508720" y="5084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755640" y="1906560"/>
            <a:ext cx="6802560" cy="2712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692360" y="24066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692360" y="2867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692360" y="3343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692360" y="3803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692360" y="42642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324000" y="2324160"/>
            <a:ext cx="8445240" cy="2124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042920" y="276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05732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8:5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